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43891200"/>
  <p:notesSz cx="32461200" cy="43422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2461200" cy="434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40670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8385920" y="-360"/>
            <a:ext cx="140670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25000" y="3255480"/>
            <a:ext cx="12211200" cy="162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3246480" y="20624400"/>
            <a:ext cx="25968240" cy="195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41243400"/>
            <a:ext cx="1406700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8385920" y="41243400"/>
            <a:ext cx="1406700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6D6A-044A-49C6-8406-221B74E98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18386280" y="41243400"/>
            <a:ext cx="1406700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00C7-E0C9-42D9-A530-7E8268B48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0125000" y="3255840"/>
            <a:ext cx="12211200" cy="1628316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3246480" y="20624400"/>
            <a:ext cx="25968240" cy="195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8AE-FBF2-45FF-B52F-62B1BA5A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296258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25371000"/>
            <a:ext cx="296258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300-371D-4572-A755-39CE0551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760" y="1024092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2537100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760" y="2537100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D04-A7B0-47B6-8FA8-FF36AEF5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953928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920" y="10240920"/>
            <a:ext cx="953928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560" y="10240920"/>
            <a:ext cx="953928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25371000"/>
            <a:ext cx="953928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920" y="25371000"/>
            <a:ext cx="953928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560" y="25371000"/>
            <a:ext cx="953928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E23-7337-4466-B5C7-602A08A1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10240920"/>
            <a:ext cx="29625840" cy="289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3B9-B0C6-4C8C-9565-F0A45A30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29625840" cy="28967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07F-2C30-493C-9830-36333E95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14457240" cy="28967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760" y="10240920"/>
            <a:ext cx="14457240" cy="28967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F4E-651A-4142-B794-ADCC72FE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FA5-BFFE-422C-AA57-3B311D5F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1757520"/>
            <a:ext cx="29625840" cy="339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0F1-D06F-47B7-80A5-5D12005F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760" y="10240920"/>
            <a:ext cx="14457240" cy="28967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2537100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40C-BFEF-4001-BE84-254F6A50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14457240" cy="28967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760" y="1024092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760" y="2537100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459-5C9C-4223-AE5A-3D06A78D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1024092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760" y="10240920"/>
            <a:ext cx="144572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25371000"/>
            <a:ext cx="29625840" cy="1381716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234-33C5-418C-8D6C-D8FDED7F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1757520"/>
            <a:ext cx="29625840" cy="73152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10240920"/>
            <a:ext cx="29625840" cy="289670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6280" indent="-16462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54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02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39969720"/>
            <a:ext cx="7680240" cy="30481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39969720"/>
            <a:ext cx="10423440" cy="30481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39969720"/>
            <a:ext cx="7680240" cy="304812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7C98-FA3F-48A2-9079-D15B70464031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514600" y="16916400"/>
            <a:ext cx="7924680" cy="5943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&lt;replace with photo(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your class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ction or summ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t of student learning data&gt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133720" y="3809880"/>
            <a:ext cx="19278360" cy="253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lang="en-US" sz="8000" spc="-1" strike="noStrike">
                <a:solidFill>
                  <a:srgbClr val="000000"/>
                </a:solidFill>
                <a:latin typeface="Verdana"/>
              </a:rPr>
              <a:t>Title of your HP Technology for Teaching project</a:t>
            </a: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&gt;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Oval 6"/>
          <p:cNvSpPr/>
          <p:nvPr/>
        </p:nvSpPr>
        <p:spPr>
          <a:xfrm>
            <a:off x="23393520" y="1981080"/>
            <a:ext cx="6933960" cy="6934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&lt;replace with y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mpus logo&gt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864520" y="7162920"/>
            <a:ext cx="1180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&lt;School Name&gt;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&lt;City, State, Country&gt;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&lt;Team Members – (name and role)&gt;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362320" y="10287000"/>
            <a:ext cx="28955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PROJECT OVERVIEW:</a:t>
            </a: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 &lt;3-4 sentence project overview; this should be a short version of the project overview in your project plan  - This is your "elevator speech", as it were - that describes your project in 30 seconds or less. It can begin with: We’re using HP technology to .... &lt;describe the focus of your work; emphasize the key activities, the specific uses of HP technology and the intended impact on students; intended impact on teaching.&gt;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1201400" y="16459200"/>
            <a:ext cx="19904040" cy="82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Impact on Student Learning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How has student learning been improved as a result of your projec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lace this paragraph with a brief description of the specific measurable outcomes you have observed relative to improvements in student learning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Starting Point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- &lt;what has student learning/achievement looked like in the past?&gt; &lt;you may refer to significant elements in the baseline student data you collected at the beginning of the project&gt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Today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- &lt;what level of student achievement is currently evidenced in the area you chose for your project focus ?&gt;&lt;What measurable difference can you point to in the nature of student learning&gt;&lt;What has changed?&gt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Comparison Group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- &lt;How does this compare to what you would expect or what you saw in the comparison group data from classrooms not involved in the project?&gt;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362320" y="26974800"/>
            <a:ext cx="11963160" cy="70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Impact on Teaching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4389480"/>
                <a:tab algn="l" pos="87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How has teaching been improved as a result of your projec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4389480"/>
                <a:tab algn="l" pos="87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&lt;what has changed in teaching approaches and methods as a result of your project?&gt;&lt;what has changed in teacher capacity to effectively integrate technology into instruction?&gt;&lt;what evidence do you have of these changes in teaching?&gt;&lt;you may refer to significant elements of the data you collected at the beginning and near the end of your project&gt;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6611480" y="27127080"/>
            <a:ext cx="1327464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389480"/>
                <a:tab algn="l" pos="877896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Impact of HP Technology Tools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4389480"/>
                <a:tab algn="l" pos="877896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4389480"/>
                <a:tab algn="l" pos="8778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particular applications of the HP technology have had the most impact on teaching and learning in your classroom?  Choose one or two examples to describe here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2438280" y="34975800"/>
            <a:ext cx="11658600" cy="5943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&lt;replace with photo(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your class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ction and/or quotes from teac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acted by your work&gt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17449920" y="34975800"/>
            <a:ext cx="11658600" cy="5943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&lt;replace with photo(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your class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ction and/or quotes highlight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y use&gt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2590920" y="41605200"/>
            <a:ext cx="2773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Verdana"/>
              </a:rPr>
              <a:t>Printed on an HP DesignJet Printer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32:48Z</dcterms:created>
  <dc:creator>Jim Vanides</dc:creator>
  <dc:description/>
  <dc:language>en-US</dc:language>
  <cp:lastModifiedBy>Linda Keller</cp:lastModifiedBy>
  <dcterms:modified xsi:type="dcterms:W3CDTF">2009-04-15T15:34:26Z</dcterms:modified>
  <cp:revision>16</cp:revision>
  <dc:subject/>
  <dc:title>Slide 1</dc:title>
</cp:coreProperties>
</file>